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0.png" ContentType="image/png"/>
  <Override PartName="/ppt/media/image9.png" ContentType="image/png"/>
  <Override PartName="/ppt/media/image1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58840" y="-36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442080"/>
            <a:ext cx="295416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58840" y="9442080"/>
            <a:ext cx="295452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0AFE47-F200-423F-818E-13792DF221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129925-B145-4027-A28A-0551084C320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A00588-D2C3-490D-8400-1AE78824D0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EA999B-EAD7-46B5-BF18-937E2E705F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D16EFB-B7F4-4C20-9D29-33D11B07181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236E16-A81A-42D2-B7D2-599C623C426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6454F9-FB5F-4967-890D-9D26033488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F5CE4E-6566-4451-BC5E-6EE200EE84B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6ACCE-9D73-4D08-9906-6426DC29B1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E17C25-112B-4115-A22E-0A7890B8498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FDC352-4C95-4B8D-B63C-9DF47016F95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8D6B89-F651-40BB-938E-616D56D548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0ED27D-81A7-4E5A-AB67-1904188D92A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32CA7A-B396-461E-9583-DA8CDD0DFC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59200" y="9442440"/>
            <a:ext cx="29545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3D1D66-24B2-42C0-9DF9-6E2DE4D0922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2200" y="4722480"/>
            <a:ext cx="5450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458F-5F10-4734-8CAA-F9BAC0DF4C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129920"/>
            <a:ext cx="822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35DDA-73C4-484D-8948-29296F7F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129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129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E31DD-7A6F-4FED-AF8E-EE9D0294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129920"/>
            <a:ext cx="264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129920"/>
            <a:ext cx="264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129920"/>
            <a:ext cx="264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1EA30-D3C8-4340-9902-34B5480A7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F322-1D0F-4DBA-8114-C59E6C17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5AF3-B25A-496C-B101-CBC9A730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A1FCC-6F2F-4888-ACAB-973728B6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E382-2704-4641-92EF-6F9245A2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24000" y="549000"/>
            <a:ext cx="64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0B14-9569-45F4-9DBD-5E3B9F63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129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A5EB0-2FA9-4148-B425-684C29ED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129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AA67-0AC2-4840-B72D-4654720D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129920"/>
            <a:ext cx="8229600" cy="20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A87A0-5F55-4F37-8E80-EB412D28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4029-4A56-47F6-ADD8-877310683EFF}" type="datetime">
              <a:rPr b="0" i="1" lang="it-IT" sz="1400" spc="-1" strike="noStrike">
                <a:solidFill>
                  <a:srgbClr val="0000ff"/>
                </a:solidFill>
                <a:latin typeface="Arial"/>
              </a:rPr>
              <a:t>28/07/26</a:t>
            </a:fld>
            <a:r>
              <a:rPr b="0" i="1" lang="it-IT" sz="1400" spc="-1" strike="noStrike">
                <a:solidFill>
                  <a:srgbClr val="0000ff"/>
                </a:solidFill>
                <a:latin typeface="Arial"/>
              </a:rPr>
              <a:t>Nov. 7°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2910-1793-44BE-86BC-064175FF0704}" type="slidenum">
              <a:rPr b="0" lang="it-IT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Logo"/>
          <p:cNvPicPr/>
          <p:nvPr/>
        </p:nvPicPr>
        <p:blipFill>
          <a:blip r:embed="rId2"/>
          <a:stretch/>
        </p:blipFill>
        <p:spPr>
          <a:xfrm>
            <a:off x="468360" y="189000"/>
            <a:ext cx="1512720" cy="11635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9"/>
          <p:cNvSpPr/>
          <p:nvPr/>
        </p:nvSpPr>
        <p:spPr>
          <a:xfrm>
            <a:off x="395280" y="13413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SERVICES 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0"/>
          <p:cNvSpPr/>
          <p:nvPr/>
        </p:nvSpPr>
        <p:spPr>
          <a:xfrm>
            <a:off x="468360" y="1844640"/>
            <a:ext cx="82072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Los Servicios de SIGNIS en Rom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042920" y="4365720"/>
            <a:ext cx="7129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Congreso «Iglesia y Cultura Digital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ff"/>
                </a:solidFill>
                <a:latin typeface="Arial"/>
              </a:rPr>
              <a:t>Santiago de Chile, 16 - 19 de octubre de 20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Servicios de Internet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–</a:t>
            </a: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 VSAT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680" y="5084640"/>
            <a:ext cx="87138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SSR mantiene actualmente una red de más de 300 sitios remotos de VSAT en el campo y el servicio incluye el acceso a llamadas telefónicas vía internet (VoIP), enseñanza electrónica y otras aplicaciones basadas en el uso de internet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1916280"/>
            <a:ext cx="51134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¿De qué se tra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s un servicio de conexión a Internet vía satélite.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Este servicio está activo en la actualidad principalmente en Africa, pero nos proponemos extenderlo a otras reg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goma3"/>
          <p:cNvPicPr/>
          <p:nvPr/>
        </p:nvPicPr>
        <p:blipFill>
          <a:blip r:embed="rId1"/>
          <a:stretch/>
        </p:blipFill>
        <p:spPr>
          <a:xfrm>
            <a:off x="5940360" y="1989000"/>
            <a:ext cx="2843280" cy="273708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3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3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Área de cobertura típic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5435640" y="2035080"/>
            <a:ext cx="3024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IS-10: área de cobertura en la banda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250920" y="2360520"/>
            <a:ext cx="4537080" cy="4164120"/>
          </a:xfrm>
          <a:prstGeom prst="rect">
            <a:avLst/>
          </a:prstGeom>
          <a:ln w="0">
            <a:noFill/>
          </a:ln>
        </p:spPr>
      </p:pic>
      <p:sp>
        <p:nvSpPr>
          <p:cNvPr id="82" name="Line 11"/>
          <p:cNvSpPr/>
          <p:nvPr/>
        </p:nvSpPr>
        <p:spPr>
          <a:xfrm flipH="1">
            <a:off x="3132000" y="3213000"/>
            <a:ext cx="2880000" cy="165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Área de cobertura típic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539640" y="2492280"/>
            <a:ext cx="360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Arial"/>
              </a:rPr>
              <a:t>IS-14: área de cobertura en la banda 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>
            <a:off x="277164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4356000" y="2421000"/>
            <a:ext cx="4276800" cy="3914640"/>
          </a:xfrm>
          <a:prstGeom prst="rect">
            <a:avLst/>
          </a:prstGeom>
          <a:ln w="0">
            <a:noFill/>
          </a:ln>
        </p:spPr>
      </p:pic>
      <p:sp>
        <p:nvSpPr>
          <p:cNvPr id="87" name="Line 8"/>
          <p:cNvSpPr/>
          <p:nvPr/>
        </p:nvSpPr>
        <p:spPr>
          <a:xfrm>
            <a:off x="2124000" y="3284640"/>
            <a:ext cx="3743280" cy="172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Servicios VSAT de Internet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9" name="1 Gráfico" descr=""/>
          <p:cNvPicPr/>
          <p:nvPr/>
        </p:nvPicPr>
        <p:blipFill>
          <a:blip r:embed="rId1"/>
          <a:stretch/>
        </p:blipFill>
        <p:spPr>
          <a:xfrm>
            <a:off x="200160" y="1938240"/>
            <a:ext cx="8526240" cy="449424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goma3"/>
          <p:cNvPicPr/>
          <p:nvPr/>
        </p:nvPicPr>
        <p:blipFill>
          <a:blip r:embed="rId1"/>
          <a:stretch/>
        </p:blipFill>
        <p:spPr>
          <a:xfrm>
            <a:off x="311040" y="4508640"/>
            <a:ext cx="2592360" cy="2305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2968560" y="4932720"/>
            <a:ext cx="210816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</a:rPr>
              <a:t>Servicios: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Servicio de conexión satelital 24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con tarifa p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78920" y="1918800"/>
            <a:ext cx="509436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Comic Sans MS"/>
              </a:rPr>
              <a:t>El kit estándar incluye: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Comic Sans MS"/>
              </a:rPr>
              <a:t>1 plato satelital de 120 cm de diámetro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Comic Sans MS"/>
              </a:rPr>
              <a:t>1 BUC de 3W para operación en la banda KU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Comic Sans MS"/>
              </a:rPr>
              <a:t>1 LNB para operación en la banda KU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Comic Sans MS"/>
              </a:rPr>
              <a:t>1 router satelital iDirect infinity 3100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Comic Sans MS"/>
              </a:rPr>
              <a:t>1 juego de cables UTP + 1 juego de cables de antena + 1 hub de 8 puertos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Comic Sans MS"/>
              </a:rPr>
              <a:t>1 estabilizador de alimentación + manual operación + CD para la instalación y mantenimiento de VSAT 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24000" y="549360"/>
            <a:ext cx="64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Equipos V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"/>
          <p:cNvPicPr/>
          <p:nvPr/>
        </p:nvPicPr>
        <p:blipFill>
          <a:blip r:embed="rId2"/>
          <a:stretch/>
        </p:blipFill>
        <p:spPr>
          <a:xfrm>
            <a:off x="6465960" y="1916280"/>
            <a:ext cx="220968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2 Imagen" descr=""/>
          <p:cNvPicPr/>
          <p:nvPr/>
        </p:nvPicPr>
        <p:blipFill>
          <a:blip r:embed="rId3"/>
          <a:stretch/>
        </p:blipFill>
        <p:spPr>
          <a:xfrm>
            <a:off x="5219640" y="3336840"/>
            <a:ext cx="3871800" cy="317844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82480" y="2387520"/>
            <a:ext cx="810432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os servicios que ofrecemos son importantes herramientas para la evangelización y el desarrollo, y para permitir una mejor comunicación, tanto “ad intra” como “ad extra”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ueden usarse tanto por la Iglesia en sus planes de evangelización como por ONGs que quieran promover proyectos de innovación que emplean las TICs para el desarrollo social y económico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24000" y="62028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Servicios de SIGNIS en Rom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3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2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2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3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2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2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magine 2" descr="PC-ENG-PU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Immagine 2" descr="RADIO-ENG-PU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0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egnaposto numero diapositiva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EA17-AA91-487A-AE84-28C86ECE5C69}" type="slidenum">
              <a:rPr b="0" lang="it-IT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magine 2" descr="TV-ENG-PU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2" descr="VSAT-ENG-PU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2000">
    <p:wipe dir="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Qué es SIGNIS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1333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GNIS es la Asociación Católica Mundial para la Comunicación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 fundó en 2001 mediante la fusión de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OCIC, la Organización Católica Internacional del Cine y el Audiovisual, y de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Unda, la Asociación Católica Mundial para la Radio y la Televisión,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que databan ambas de 1928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n abril de 1958, OCIC inauguró en Roma un Servicio Misionero que ahora se llama «Servicios de SIGNIS en Roma»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oto con MM 011"/>
          <p:cNvPicPr/>
          <p:nvPr/>
        </p:nvPicPr>
        <p:blipFill>
          <a:blip r:embed="rId1"/>
          <a:stretch/>
        </p:blipFill>
        <p:spPr>
          <a:xfrm>
            <a:off x="900000" y="1919160"/>
            <a:ext cx="7344000" cy="48229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1143000" y="3213000"/>
            <a:ext cx="70200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SIGNIS Services Rome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Palazzo San Cal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00120 Città del Vatic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Tel +39 06698 87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Fax +39 06698 87335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Email: ssr@signis.net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Bodoni Bd BT"/>
              </a:rPr>
              <a:t>Web: www.signis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592600" y="907920"/>
            <a:ext cx="24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Contac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ipe dir="d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844704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os Servicios de SIGNIS en Roma (SSR) son la rama técnica y pastoral de SIGNIS, con sede en el Palazzo San Calisto, en el Vaticano 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5" name="Picture 4" descr="signis025"/>
          <p:cNvPicPr/>
          <p:nvPr/>
        </p:nvPicPr>
        <p:blipFill>
          <a:blip r:embed="rId1"/>
          <a:stretch/>
        </p:blipFill>
        <p:spPr>
          <a:xfrm>
            <a:off x="1857240" y="3571920"/>
            <a:ext cx="5137200" cy="2955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2050920" y="5490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Servicios de SIGNIS en Rom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6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Servicios de SIGNIS en Rom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5359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urante más de 50 años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SR han estado proporcionando apoyo técnico a las Iglesias locales y comunidades en desarrollo, principalmente en África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s servicios se han expandido hacia otras partes del mundo en desarrollo (Medio Oriente, Irán, Europa Oriental, el Caribe, etc.)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os servicios se centran en ofrecer soluciones de comunicación a bajo costo para comunidades marginalizadas y desconectadas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Principales servicios 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46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SSR ha ayudado a lanzar e implementar: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staciones de radio de FM, sistemas de edición de audio/video,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Mini-estaciones de TV, instalaciones para automatización y transmisión para radiodifusora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quipos para audiovisuales e informática, (PCs y accesorios, cámaras digitales fotográficas y de video, paneles solares, etc.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ervicios de Internet vía satélite mediante VSAT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istemas telefónicos satelitales.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5773-0124-4B72-B6A9-4AC415EC3334}" type="slidenum">
              <a:rPr b="0" lang="it-IT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Producción radial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989000"/>
            <a:ext cx="8229600" cy="12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os SSR han suministrado hasta ahora más de 200 estaciones de radio de FM (estudios de producción y transmisión, sistemas de transmisores y antenas) en África.</a:t>
            </a:r>
            <a:endParaRPr b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4" name="Picture 12" descr="SPEAKER"/>
          <p:cNvPicPr/>
          <p:nvPr/>
        </p:nvPicPr>
        <p:blipFill>
          <a:blip r:embed="rId1"/>
          <a:stretch/>
        </p:blipFill>
        <p:spPr>
          <a:xfrm>
            <a:off x="4356000" y="3235320"/>
            <a:ext cx="4310280" cy="3073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79280" y="3429000"/>
            <a:ext cx="417672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e ofrece un servicio completo, desde el análisis del material necesario, elaboración de un presupuesto, compra de los equipos (transmisor, sistema de antena, equipos para el estudio, etc.), cableado y puesta a punto, embalaje y enví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studiooxygen4"/>
          <p:cNvPicPr/>
          <p:nvPr/>
        </p:nvPicPr>
        <p:blipFill>
          <a:blip r:embed="rId1"/>
          <a:stretch/>
        </p:blipFill>
        <p:spPr>
          <a:xfrm>
            <a:off x="4859280" y="2565360"/>
            <a:ext cx="3924360" cy="3375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50920" y="2093760"/>
            <a:ext cx="4608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Arial Unicode MS"/>
              </a:rPr>
              <a:t>Kit de producción</a:t>
            </a:r>
            <a:r>
              <a:rPr b="1" lang="en-GB" sz="2200" spc="-1" strike="noStrike">
                <a:solidFill>
                  <a:srgbClr val="0000ff"/>
                </a:solidFill>
                <a:latin typeface="Arial Unicode MS"/>
              </a:rPr>
              <a:t>: con una variedad de opciones de consolas profesionales, tanto analógicas como digi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Arial Unicode MS"/>
              </a:rPr>
              <a:t>Kit de transmisión:</a:t>
            </a:r>
            <a:r>
              <a:rPr b="1" lang="en-GB" sz="2200" spc="-1" strike="noStrike">
                <a:solidFill>
                  <a:srgbClr val="0000ff"/>
                </a:solidFill>
                <a:latin typeface="Arial Unicode MS"/>
              </a:rPr>
              <a:t> Sistema de transmisor y ante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Arial Unicode MS"/>
              </a:rPr>
              <a:t>Kit de protección</a:t>
            </a:r>
            <a:r>
              <a:rPr b="1" lang="en-GB" sz="2200" spc="-1" strike="noStrike">
                <a:solidFill>
                  <a:srgbClr val="0000ff"/>
                </a:solidFill>
                <a:latin typeface="Arial Unicode MS"/>
              </a:rPr>
              <a:t>: Conductor antirayos y sistema de aterra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Arial Unicode MS"/>
              </a:rPr>
              <a:t>OB</a:t>
            </a:r>
            <a:r>
              <a:rPr b="1" lang="en-GB" sz="2200" spc="-1" strike="noStrike">
                <a:solidFill>
                  <a:srgbClr val="0000ff"/>
                </a:solidFill>
                <a:latin typeface="Arial Unicode MS"/>
              </a:rPr>
              <a:t> (radiodifusión extern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ff"/>
                </a:solidFill>
                <a:uFillTx/>
                <a:latin typeface="Arial Unicode MS"/>
              </a:rPr>
              <a:t>STL</a:t>
            </a:r>
            <a:r>
              <a:rPr b="1" lang="en-GB" sz="2200" spc="-1" strike="noStrike">
                <a:solidFill>
                  <a:srgbClr val="0000ff"/>
                </a:solidFill>
                <a:latin typeface="Arial Unicode MS"/>
              </a:rPr>
              <a:t> (Enlace estudio a transmiso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195640" y="549360"/>
            <a:ext cx="649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Arial"/>
              </a:rPr>
              <a:t>Estaciones de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TUDIO_SEVICE"/>
          <p:cNvPicPr/>
          <p:nvPr/>
        </p:nvPicPr>
        <p:blipFill>
          <a:blip r:embed="rId2"/>
          <a:stretch/>
        </p:blipFill>
        <p:spPr>
          <a:xfrm>
            <a:off x="4859280" y="2565360"/>
            <a:ext cx="3922920" cy="338472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Producción de TV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1"/>
          <a:stretch/>
        </p:blipFill>
        <p:spPr>
          <a:xfrm>
            <a:off x="4602240" y="2100240"/>
            <a:ext cx="4325760" cy="3776760"/>
          </a:xfrm>
          <a:prstGeom prst="rect">
            <a:avLst/>
          </a:prstGeom>
          <a:ln w="0">
            <a:noFill/>
          </a:ln>
        </p:spPr>
      </p:pic>
      <p:sp>
        <p:nvSpPr>
          <p:cNvPr id="72" name="1 CuadroTexto"/>
          <p:cNvSpPr/>
          <p:nvPr/>
        </p:nvSpPr>
        <p:spPr>
          <a:xfrm>
            <a:off x="488880" y="2349360"/>
            <a:ext cx="41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uministramos también equipos para producción y tranasmisión de TV, sugiriendo siempre que se comience por las soluciones más simples y se vaya escalando gradualmente hacia otras más sofistic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4000" y="549000"/>
            <a:ext cx="64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Equipos para audiovisuales e informática</a:t>
            </a:r>
            <a:endParaRPr b="1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175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SSR trata también de localizar equipos de comunicación a precios accesibles para su amplia gama de clientes de la Iglesia y de comunidades en desarrollo, especialmente estudiantes.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s solicitudes de equipos incluyen, entre otros: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Cs y accesorios,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ámaras digitales fotográficas y de video, proyectores de video,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mpresoras, fotocopiadoras, escáneres,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Teléfonos celulares, 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aneles solares</a:t>
            </a:r>
            <a:endParaRPr b="1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2000">
    <p:wipe dir="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2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2:18:53Z</dcterms:created>
  <dc:creator>Giuseppe</dc:creator>
  <dc:description/>
  <dc:language>en-US</dc:language>
  <cp:lastModifiedBy>Gustavo Andújar</cp:lastModifiedBy>
  <dcterms:modified xsi:type="dcterms:W3CDTF">2011-10-18T05:44:10Z</dcterms:modified>
  <cp:revision>302</cp:revision>
  <dc:subject/>
  <dc:title>Diapositiva 1</dc:title>
</cp:coreProperties>
</file>