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4A25-CB7E-41AF-9418-2978035F127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F368-AC3B-454B-9CAA-001B702CBD48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160-ADC8-4F49-84FF-DF995628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576-5805-4EB5-A22A-3C81C83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799-B2D9-49D5-8DB3-9228A343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040-7690-47BE-865C-5E57F71B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DD4-3045-4BD6-83FA-033C1A08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7FF-9A26-43DF-8D08-B3725061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1B8-1E3D-4E7E-8C39-E7B853F2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263-6A9F-49F0-ADC5-46FE8019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B69-93C0-4209-BD28-56595FDE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8B8-EB39-4A34-908C-DF5002A0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1E0-9750-4FA9-BB8C-841B493B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823-EA86-4387-AECF-273A0D9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DB60-BF22-4AE6-AFBF-4BB5399E7CB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0080" y="1298160"/>
            <a:ext cx="777240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INCIDENCIA DE LA CULTURA DIGITAL </a:t>
            </a:r>
            <a:br>
              <a:rPr sz="3200"/>
            </a:b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EN LA SOCIEDAD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5 CuadroTexto"/>
          <p:cNvSpPr/>
          <p:nvPr/>
        </p:nvSpPr>
        <p:spPr>
          <a:xfrm>
            <a:off x="1452600" y="3213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Arial"/>
              </a:rPr>
              <a:t>Grupo Investigación continental, interinstitu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Arial"/>
              </a:rPr>
              <a:t>e interdiscipl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ogoriial"/>
          <p:cNvPicPr/>
          <p:nvPr/>
        </p:nvPicPr>
        <p:blipFill>
          <a:blip r:embed="rId1"/>
          <a:stretch/>
        </p:blipFill>
        <p:spPr>
          <a:xfrm>
            <a:off x="2484360" y="260280"/>
            <a:ext cx="790560" cy="1065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elam"/>
          <p:cNvPicPr/>
          <p:nvPr/>
        </p:nvPicPr>
        <p:blipFill>
          <a:blip r:embed="rId2"/>
          <a:stretch/>
        </p:blipFill>
        <p:spPr>
          <a:xfrm>
            <a:off x="900000" y="189000"/>
            <a:ext cx="892440" cy="11649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4"/>
          <p:cNvGrpSpPr/>
          <p:nvPr/>
        </p:nvGrpSpPr>
        <p:grpSpPr>
          <a:xfrm>
            <a:off x="3492360" y="404640"/>
            <a:ext cx="2276640" cy="914400"/>
            <a:chOff x="3492360" y="404640"/>
            <a:chExt cx="2276640" cy="914400"/>
          </a:xfrm>
        </p:grpSpPr>
        <p:pic>
          <p:nvPicPr>
            <p:cNvPr id="53" name="Picture 5" descr="cedal2"/>
            <p:cNvPicPr/>
            <p:nvPr/>
          </p:nvPicPr>
          <p:blipFill>
            <a:blip r:embed="rId3"/>
            <a:stretch/>
          </p:blipFill>
          <p:spPr>
            <a:xfrm>
              <a:off x="3594600" y="404640"/>
              <a:ext cx="1912320" cy="49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492360" y="813600"/>
              <a:ext cx="2276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000000"/>
                  </a:solidFill>
                  <a:latin typeface="Arial"/>
                </a:rPr>
                <a:t>Comunicación Educativ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"/>
          <p:cNvGrpSpPr/>
          <p:nvPr/>
        </p:nvGrpSpPr>
        <p:grpSpPr>
          <a:xfrm>
            <a:off x="6372360" y="404640"/>
            <a:ext cx="1607760" cy="770040"/>
            <a:chOff x="6372360" y="404640"/>
            <a:chExt cx="1607760" cy="770040"/>
          </a:xfrm>
        </p:grpSpPr>
        <p:pic>
          <p:nvPicPr>
            <p:cNvPr id="56" name="Picture 3" descr="giro"/>
            <p:cNvPicPr/>
            <p:nvPr/>
          </p:nvPicPr>
          <p:blipFill>
            <a:blip r:embed="rId4"/>
            <a:stretch/>
          </p:blipFill>
          <p:spPr>
            <a:xfrm>
              <a:off x="6372360" y="404640"/>
              <a:ext cx="91224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4"/>
            <p:cNvSpPr/>
            <p:nvPr/>
          </p:nvSpPr>
          <p:spPr>
            <a:xfrm>
              <a:off x="7113600" y="925200"/>
              <a:ext cx="866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200" spc="-1" strike="noStrike">
                  <a:solidFill>
                    <a:srgbClr val="cc3300"/>
                  </a:solidFill>
                  <a:latin typeface="Calibri"/>
                </a:rPr>
                <a:t>- </a:t>
              </a:r>
              <a:r>
                <a:rPr b="1" lang="es-CO" sz="1800" spc="-1" strike="noStrike">
                  <a:solidFill>
                    <a:srgbClr val="cc3300"/>
                  </a:solidFill>
                  <a:latin typeface="Calibri"/>
                </a:rPr>
                <a:t>RI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Finalización y socialización de estudios (1 etap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8920" y="3716280"/>
            <a:ext cx="5472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ar la mayor difusión posible que esperamos redunde en una innovación pedagógica y evangelizadora acorde con las exigencias de la cultura digi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Compaq_Administrador\Escritorio\mapamundi.jpg"/>
          <p:cNvPicPr/>
          <p:nvPr/>
        </p:nvPicPr>
        <p:blipFill>
          <a:blip r:embed="rId1"/>
          <a:stretch/>
        </p:blipFill>
        <p:spPr>
          <a:xfrm>
            <a:off x="5689440" y="2997360"/>
            <a:ext cx="3275280" cy="2593800"/>
          </a:xfrm>
          <a:prstGeom prst="rect">
            <a:avLst/>
          </a:prstGeom>
          <a:ln w="0">
            <a:noFill/>
          </a:ln>
        </p:spPr>
      </p:pic>
      <p:sp>
        <p:nvSpPr>
          <p:cNvPr id="61" name="3 CuadroTexto"/>
          <p:cNvSpPr/>
          <p:nvPr/>
        </p:nvSpPr>
        <p:spPr>
          <a:xfrm>
            <a:off x="108000" y="148104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Arial"/>
              </a:rPr>
              <a:t>Los resultados de estos 11 estudios serán publicados en edición digital e impresa a fines de 201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73 Grupo"/>
          <p:cNvGrpSpPr/>
          <p:nvPr/>
        </p:nvGrpSpPr>
        <p:grpSpPr>
          <a:xfrm>
            <a:off x="246240" y="490680"/>
            <a:ext cx="8862840" cy="5746680"/>
            <a:chOff x="246240" y="490680"/>
            <a:chExt cx="8862840" cy="5746680"/>
          </a:xfrm>
        </p:grpSpPr>
        <p:pic>
          <p:nvPicPr>
            <p:cNvPr id="63" name="Picture 4" descr="C:\Documents and Settings\Compaq_Administrador\Escritorio\prueba.JPG"/>
            <p:cNvPicPr/>
            <p:nvPr/>
          </p:nvPicPr>
          <p:blipFill>
            <a:blip r:embed="rId1"/>
            <a:stretch/>
          </p:blipFill>
          <p:spPr>
            <a:xfrm>
              <a:off x="2405160" y="722520"/>
              <a:ext cx="4336200" cy="519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C:\Documents and Settings\Compaq_Administrador\Escritorio\MB900250420.JPG"/>
            <p:cNvPicPr/>
            <p:nvPr/>
          </p:nvPicPr>
          <p:blipFill>
            <a:blip r:embed="rId2"/>
            <a:stretch/>
          </p:blipFill>
          <p:spPr>
            <a:xfrm>
              <a:off x="8291880" y="619920"/>
              <a:ext cx="58608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Documents and Settings\Compaq_Administrador\Escritorio\MB900298593.JPG"/>
            <p:cNvPicPr/>
            <p:nvPr/>
          </p:nvPicPr>
          <p:blipFill>
            <a:blip r:embed="rId3"/>
            <a:stretch/>
          </p:blipFill>
          <p:spPr>
            <a:xfrm>
              <a:off x="3966120" y="490680"/>
              <a:ext cx="5011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7" descr="C:\Documents and Settings\Compaq_Administrador\Escritorio\MH900078795.JPG"/>
            <p:cNvPicPr/>
            <p:nvPr/>
          </p:nvPicPr>
          <p:blipFill>
            <a:blip r:embed="rId4"/>
            <a:stretch/>
          </p:blipFill>
          <p:spPr>
            <a:xfrm>
              <a:off x="4577040" y="5603760"/>
              <a:ext cx="6156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78 Elipse"/>
            <p:cNvSpPr/>
            <p:nvPr/>
          </p:nvSpPr>
          <p:spPr>
            <a:xfrm>
              <a:off x="4083480" y="903240"/>
              <a:ext cx="152280" cy="141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79 Elipse"/>
            <p:cNvSpPr/>
            <p:nvPr/>
          </p:nvSpPr>
          <p:spPr>
            <a:xfrm>
              <a:off x="1386360" y="5275440"/>
              <a:ext cx="150480" cy="139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80 Elipse"/>
            <p:cNvSpPr/>
            <p:nvPr/>
          </p:nvSpPr>
          <p:spPr>
            <a:xfrm>
              <a:off x="8171280" y="1114560"/>
              <a:ext cx="150480" cy="141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81 Elipse"/>
            <p:cNvSpPr/>
            <p:nvPr/>
          </p:nvSpPr>
          <p:spPr>
            <a:xfrm>
              <a:off x="7039440" y="3969000"/>
              <a:ext cx="152280" cy="139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0" descr="C:\Documents and Settings\Compaq_Administrador\Escritorio\MH900212405.JPG"/>
            <p:cNvPicPr/>
            <p:nvPr/>
          </p:nvPicPr>
          <p:blipFill>
            <a:blip r:embed="rId5"/>
            <a:stretch/>
          </p:blipFill>
          <p:spPr>
            <a:xfrm>
              <a:off x="6875280" y="4129560"/>
              <a:ext cx="43596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1" descr="C:\Documents and Settings\Compaq_Administrador\Escritorio\MH900212373.JPG"/>
            <p:cNvPicPr/>
            <p:nvPr/>
          </p:nvPicPr>
          <p:blipFill>
            <a:blip r:embed="rId6"/>
            <a:stretch/>
          </p:blipFill>
          <p:spPr>
            <a:xfrm>
              <a:off x="854640" y="4943880"/>
              <a:ext cx="52272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2" descr="C:\Documents and Settings\Compaq_Administrador\Escritorio\MH900322792.JPG"/>
            <p:cNvPicPr/>
            <p:nvPr/>
          </p:nvPicPr>
          <p:blipFill>
            <a:blip r:embed="rId7"/>
            <a:stretch/>
          </p:blipFill>
          <p:spPr>
            <a:xfrm rot="18324600">
              <a:off x="1794960" y="2050560"/>
              <a:ext cx="46080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85 Elipse"/>
            <p:cNvSpPr/>
            <p:nvPr/>
          </p:nvSpPr>
          <p:spPr>
            <a:xfrm>
              <a:off x="1713600" y="2557440"/>
              <a:ext cx="150480" cy="141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86 Conector recto"/>
            <p:cNvSpPr/>
            <p:nvPr/>
          </p:nvSpPr>
          <p:spPr>
            <a:xfrm>
              <a:off x="4213800" y="1023840"/>
              <a:ext cx="898200" cy="46008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87 Conector recto"/>
            <p:cNvSpPr/>
            <p:nvPr/>
          </p:nvSpPr>
          <p:spPr>
            <a:xfrm flipV="1">
              <a:off x="1864440" y="1184400"/>
              <a:ext cx="6381360" cy="144288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88 Conector recto"/>
            <p:cNvSpPr/>
            <p:nvPr/>
          </p:nvSpPr>
          <p:spPr>
            <a:xfrm flipH="1">
              <a:off x="1408320" y="1184400"/>
              <a:ext cx="6836760" cy="411156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89 Elipse"/>
            <p:cNvSpPr/>
            <p:nvPr/>
          </p:nvSpPr>
          <p:spPr>
            <a:xfrm>
              <a:off x="4983480" y="5604120"/>
              <a:ext cx="150480" cy="139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90 Conector recto"/>
            <p:cNvSpPr/>
            <p:nvPr/>
          </p:nvSpPr>
          <p:spPr>
            <a:xfrm>
              <a:off x="1765800" y="2614680"/>
              <a:ext cx="5325480" cy="140976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91 Conector recto"/>
            <p:cNvSpPr/>
            <p:nvPr/>
          </p:nvSpPr>
          <p:spPr>
            <a:xfrm>
              <a:off x="4213800" y="1023840"/>
              <a:ext cx="2847600" cy="296532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92 Rectángulo" descr=""/>
            <p:cNvPicPr/>
            <p:nvPr/>
          </p:nvPicPr>
          <p:blipFill>
            <a:blip r:embed="rId8"/>
            <a:stretch/>
          </p:blipFill>
          <p:spPr>
            <a:xfrm>
              <a:off x="246240" y="3907800"/>
              <a:ext cx="3888720" cy="149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93 Rectángulo" descr=""/>
            <p:cNvPicPr/>
            <p:nvPr/>
          </p:nvPicPr>
          <p:blipFill>
            <a:blip r:embed="rId9"/>
            <a:stretch/>
          </p:blipFill>
          <p:spPr>
            <a:xfrm>
              <a:off x="5226120" y="688680"/>
              <a:ext cx="388296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94 Conector recto"/>
            <p:cNvSpPr/>
            <p:nvPr/>
          </p:nvSpPr>
          <p:spPr>
            <a:xfrm flipH="1" flipV="1">
              <a:off x="1735560" y="2577960"/>
              <a:ext cx="3398400" cy="30956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95 Conector recto"/>
            <p:cNvSpPr/>
            <p:nvPr/>
          </p:nvSpPr>
          <p:spPr>
            <a:xfrm flipV="1">
              <a:off x="1462680" y="1044720"/>
              <a:ext cx="2696760" cy="423072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onformación de red  (2 etap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Compaq_Administrador\Escritorio\mapamundi.jpg"/>
          <p:cNvPicPr/>
          <p:nvPr/>
        </p:nvPicPr>
        <p:blipFill>
          <a:blip r:embed="rId1"/>
          <a:stretch/>
        </p:blipFill>
        <p:spPr>
          <a:xfrm>
            <a:off x="5689440" y="2997360"/>
            <a:ext cx="3275280" cy="2593800"/>
          </a:xfrm>
          <a:prstGeom prst="rect">
            <a:avLst/>
          </a:prstGeom>
          <a:ln w="0">
            <a:noFill/>
          </a:ln>
        </p:spPr>
      </p:pic>
      <p:sp>
        <p:nvSpPr>
          <p:cNvPr id="87" name="3 CuadroTexto"/>
          <p:cNvSpPr/>
          <p:nvPr/>
        </p:nvSpPr>
        <p:spPr>
          <a:xfrm>
            <a:off x="108000" y="1682640"/>
            <a:ext cx="885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Arial"/>
              </a:rPr>
              <a:t>Compartir líneas de investigación e investigaciones en curs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Arial"/>
              </a:rPr>
              <a:t>Institucionaliza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Arial"/>
              </a:rPr>
              <a:t>Alianz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7:24:17Z</dcterms:created>
  <dc:creator>ccarderon</dc:creator>
  <dc:description/>
  <dc:language>en-US</dc:language>
  <cp:lastModifiedBy>myrna</cp:lastModifiedBy>
  <dcterms:modified xsi:type="dcterms:W3CDTF">2011-10-18T21:13:16Z</dcterms:modified>
  <cp:revision>139</cp:revision>
  <dc:subject/>
  <dc:title>Diapositiva 1</dc:title>
</cp:coreProperties>
</file>