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5.jpeg" ContentType="image/jpeg"/>
  <Override PartName="/ppt/media/image2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0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29.jpeg" ContentType="image/jpeg"/>
  <Override PartName="/ppt/media/image3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4.png" ContentType="image/png"/>
  <Override PartName="/ppt/media/image28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311-D354-49D2-8C5F-EFA6D93CFE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C83C-8E6D-4464-BA80-E61C3F6135E5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A8DF-E680-4FF1-9FA4-9F6E1337DB61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D798-F942-4710-9BD3-4174BFEF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3DF4-F78B-476B-B883-891E78CE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961F-304D-4D80-AE57-BA7E6DFD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E4A7-3BC5-4547-BC15-E5B137C6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A8F3-248D-47C5-A7DD-5261454D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98A2-911A-46D1-A5AE-B0A02C85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FC26-D0AE-4177-82F4-4BF9491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D194-8FE8-48E4-B92B-756120FB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44E7-630C-4A13-B9B1-D664F969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EF6E-51F1-4A0F-BDFC-3B1A8F6E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0BB4-C524-4763-BC63-00BEE904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5744-1468-4C02-8ED6-21E29D9D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7FEA-F21F-4A61-AE30-D347882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B6DC-3200-44DA-8F40-6FC919AD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1734-EC08-4FD3-9F07-73AF0807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8861-E74B-4F3C-B7F6-B275AD71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FCF7-757A-422B-A1BC-5B6F12A6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69A8F-7A9D-4AFA-A97F-0F64A67E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9866-26F2-4C3B-86D2-9BA9F062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8EBB-6A5F-425D-B02C-A8989E60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8A8B-603B-4641-9AC4-403DA97B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B60B-E7D6-4C92-94B8-243A282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EB8C-2237-40AC-9605-59100C6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B58F-5373-4151-B1C4-EE5E8EEC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EC60-ADA4-458B-B5CC-21963675D41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" name="Picture 16" descr="banner"/>
          <p:cNvPicPr/>
          <p:nvPr/>
        </p:nvPicPr>
        <p:blipFill>
          <a:blip r:embed="rId2"/>
          <a:srcRect l="3444" t="0" r="68150" b="0"/>
          <a:stretch/>
        </p:blipFill>
        <p:spPr>
          <a:xfrm>
            <a:off x="179280" y="185760"/>
            <a:ext cx="1511280" cy="8827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7" descr="guadalupe"/>
          <p:cNvPicPr/>
          <p:nvPr/>
        </p:nvPicPr>
        <p:blipFill>
          <a:blip r:embed="rId3"/>
          <a:stretch/>
        </p:blipFill>
        <p:spPr>
          <a:xfrm>
            <a:off x="8172360" y="146160"/>
            <a:ext cx="52704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61" name="Picture 16" descr="banner"/>
          <p:cNvPicPr/>
          <p:nvPr/>
        </p:nvPicPr>
        <p:blipFill>
          <a:blip r:embed="rId2"/>
          <a:srcRect l="3444" t="0" r="68150" b="0"/>
          <a:stretch/>
        </p:blipFill>
        <p:spPr>
          <a:xfrm>
            <a:off x="179280" y="185760"/>
            <a:ext cx="1511280" cy="88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guadalupe"/>
          <p:cNvPicPr/>
          <p:nvPr/>
        </p:nvPicPr>
        <p:blipFill>
          <a:blip r:embed="rId3"/>
          <a:stretch/>
        </p:blipFill>
        <p:spPr>
          <a:xfrm>
            <a:off x="8172360" y="146160"/>
            <a:ext cx="527040" cy="108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919B-5069-479B-A45C-FB8904FBF1A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Mapa de </a:t>
            </a:r>
            <a:br>
              <a:rPr sz="6000"/>
            </a:b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Conectividad Eclesia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sultados Encuesta RI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Octubre 20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755640" y="1268280"/>
          <a:ext cx="763272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7632720" cy="4994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rcRect l="19046" t="35005" r="25294" b="12504"/>
          <a:stretch/>
        </p:blipFill>
        <p:spPr>
          <a:xfrm>
            <a:off x="428760" y="1571760"/>
            <a:ext cx="846756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4"/>
          <p:cNvGraphicFramePr/>
          <p:nvPr/>
        </p:nvGraphicFramePr>
        <p:xfrm>
          <a:off x="351000" y="1349280"/>
          <a:ext cx="8569080" cy="452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349280"/>
                    <a:ext cx="856908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42920" y="6021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* Se refiere a oficinas de obispados. Son zonas urban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324000" y="1517760"/>
            <a:ext cx="856908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407880" y="1525680"/>
            <a:ext cx="842508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52440" y="154296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esencia digit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293760" y="1447920"/>
            <a:ext cx="85690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4"/>
          <p:cNvGraphicFramePr/>
          <p:nvPr/>
        </p:nvGraphicFramePr>
        <p:xfrm>
          <a:off x="549360" y="1549440"/>
          <a:ext cx="8116920" cy="44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549440"/>
                    <a:ext cx="8116920" cy="44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328680" y="1511280"/>
            <a:ext cx="8496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General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Objetivo: Dar un primer paso para identificar qué puntos del cuerpo eclesial están privados de posibilidad –debido a la brecha digital– de participar del banquete del diálogo eclesial y social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cuestados: coordinadores nacionales de comunicación / RIIAL (Conferencias Episcopal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8 de 20 países han respondi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68360" y="1461960"/>
            <a:ext cx="82803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396720" y="1495440"/>
            <a:ext cx="83520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9120" y="2708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Apertura a la </a:t>
            </a:r>
            <a:br>
              <a:rPr sz="4400"/>
            </a:b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cultura digital y ac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"/>
          <p:cNvPicPr/>
          <p:nvPr/>
        </p:nvPicPr>
        <p:blipFill>
          <a:blip r:embed="rId1"/>
          <a:stretch/>
        </p:blipFill>
        <p:spPr>
          <a:xfrm>
            <a:off x="539640" y="1468440"/>
            <a:ext cx="81378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324000" y="1415880"/>
            <a:ext cx="84960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324000" y="1598760"/>
            <a:ext cx="8424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Tendenc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Áreas abordad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ructura organizati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ectividad – Acceso a la tecnologí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sencia digital - utiliz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pertura a la cultura digital y ac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395280" y="1484280"/>
          <a:ext cx="849780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497800" cy="43909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5"/>
          <p:cNvGrpSpPr/>
          <p:nvPr/>
        </p:nvGrpSpPr>
        <p:grpSpPr>
          <a:xfrm>
            <a:off x="539640" y="404640"/>
            <a:ext cx="8136000" cy="6204240"/>
            <a:chOff x="539640" y="404640"/>
            <a:chExt cx="8136000" cy="6204240"/>
          </a:xfrm>
        </p:grpSpPr>
        <p:pic>
          <p:nvPicPr>
            <p:cNvPr id="155" name="Picture 6" descr="3G-2010"/>
            <p:cNvPicPr/>
            <p:nvPr/>
          </p:nvPicPr>
          <p:blipFill>
            <a:blip r:embed="rId1"/>
            <a:srcRect l="0" t="28646" r="0" b="0"/>
            <a:stretch/>
          </p:blipFill>
          <p:spPr>
            <a:xfrm>
              <a:off x="539640" y="1052640"/>
              <a:ext cx="8136000" cy="5556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56" name="Picture 7" descr="Banda-ancha-2010"/>
            <p:cNvPicPr/>
            <p:nvPr/>
          </p:nvPicPr>
          <p:blipFill>
            <a:blip r:embed="rId2"/>
            <a:srcRect l="4184" t="0" r="0" b="75391"/>
            <a:stretch/>
          </p:blipFill>
          <p:spPr>
            <a:xfrm>
              <a:off x="4572000" y="404640"/>
              <a:ext cx="4103640" cy="642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57" name="Picture 8" descr="3G-2010"/>
            <p:cNvPicPr/>
            <p:nvPr/>
          </p:nvPicPr>
          <p:blipFill>
            <a:blip r:embed="rId3"/>
            <a:srcRect l="33640" t="19104" r="31847" b="72276"/>
            <a:stretch/>
          </p:blipFill>
          <p:spPr>
            <a:xfrm>
              <a:off x="539640" y="404640"/>
              <a:ext cx="4032360" cy="642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pic>
        <p:nvPicPr>
          <p:cNvPr id="158" name="Picture 9" descr="banner"/>
          <p:cNvPicPr/>
          <p:nvPr/>
        </p:nvPicPr>
        <p:blipFill>
          <a:blip r:embed="rId4"/>
          <a:srcRect l="3444" t="0" r="68150" b="0"/>
          <a:stretch/>
        </p:blipFill>
        <p:spPr>
          <a:xfrm>
            <a:off x="179280" y="185760"/>
            <a:ext cx="1511280" cy="88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guadalupe"/>
          <p:cNvPicPr/>
          <p:nvPr/>
        </p:nvPicPr>
        <p:blipFill>
          <a:blip r:embed="rId5"/>
          <a:stretch/>
        </p:blipFill>
        <p:spPr>
          <a:xfrm>
            <a:off x="8172360" y="146160"/>
            <a:ext cx="527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4"/>
          <p:cNvGraphicFramePr/>
          <p:nvPr/>
        </p:nvGraphicFramePr>
        <p:xfrm>
          <a:off x="900000" y="1268280"/>
          <a:ext cx="7489800" cy="49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7489800" cy="49453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recios-2008---2009"/>
          <p:cNvPicPr/>
          <p:nvPr/>
        </p:nvPicPr>
        <p:blipFill>
          <a:blip r:embed="rId1"/>
          <a:stretch/>
        </p:blipFill>
        <p:spPr>
          <a:xfrm>
            <a:off x="811080" y="749160"/>
            <a:ext cx="7848720" cy="584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3" name="Picture 5" descr="banner"/>
          <p:cNvPicPr/>
          <p:nvPr/>
        </p:nvPicPr>
        <p:blipFill>
          <a:blip r:embed="rId2"/>
          <a:srcRect l="3444" t="0" r="68150" b="0"/>
          <a:stretch/>
        </p:blipFill>
        <p:spPr>
          <a:xfrm>
            <a:off x="179280" y="185760"/>
            <a:ext cx="1511280" cy="88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uadalupe"/>
          <p:cNvPicPr/>
          <p:nvPr/>
        </p:nvPicPr>
        <p:blipFill>
          <a:blip r:embed="rId3"/>
          <a:stretch/>
        </p:blipFill>
        <p:spPr>
          <a:xfrm>
            <a:off x="8172360" y="146160"/>
            <a:ext cx="527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recios-tic-2009"/>
          <p:cNvPicPr/>
          <p:nvPr/>
        </p:nvPicPr>
        <p:blipFill>
          <a:blip r:embed="rId1"/>
          <a:srcRect l="0" t="0" r="0" b="3443"/>
          <a:stretch/>
        </p:blipFill>
        <p:spPr>
          <a:xfrm>
            <a:off x="866880" y="250920"/>
            <a:ext cx="7848360" cy="650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6" name="Picture 5" descr="banner"/>
          <p:cNvPicPr/>
          <p:nvPr/>
        </p:nvPicPr>
        <p:blipFill>
          <a:blip r:embed="rId2"/>
          <a:srcRect l="3444" t="0" r="68150" b="0"/>
          <a:stretch/>
        </p:blipFill>
        <p:spPr>
          <a:xfrm>
            <a:off x="179280" y="185760"/>
            <a:ext cx="1511280" cy="8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uadalupe"/>
          <p:cNvPicPr/>
          <p:nvPr/>
        </p:nvPicPr>
        <p:blipFill>
          <a:blip r:embed="rId3"/>
          <a:stretch/>
        </p:blipFill>
        <p:spPr>
          <a:xfrm>
            <a:off x="8172360" y="146160"/>
            <a:ext cx="527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serva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chas diócesis aun no cuentan con encargado de comunicación (40%) ni RIIAL (64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Banda ancha no cubre aun al 35% de dióce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6% no tiene conexión prop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bertura de internet y celulares es precaria en zonas rura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las diócesis que tienen web, pocas (13%) dependen de otras para su difu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serva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el 50% de los países no se están buscando formas alternativas de conectividad para las regiones aislad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el 83% de los países sí se utilizan medios alternativos off-line (folletos, cd’s, radio, tv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os medios offline no deben desestimarse. Usar tecnología para hacerlos más eficie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Buscar mecanismos para incluir a los no conectados con opciones de bajo cos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serva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ntido de red en las web diocesanas vinculando a sus parroquias se cumple en un 62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modelo Web 2.0 no es aun lo más utilizado (40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ha incursionado poco en las redes sociales como medio para la misión (19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y jurisdicciones que no tienen web pero sí están presentes en la redes socia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serva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 necesario contar con personal dedicado a las labores de comunicación y tecnologí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rear conciencia de la necesidad de la formación en comunicación y cultura digital ya que pocas diócesis la tienen (21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alleres de sensibilización y formación son fundamenta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920" y="1560600"/>
            <a:ext cx="318636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pa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eliminar de conectividad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ientras exista una comunidad necesitada de comunicación, la RIIAL estará en construcción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5 Imagen" descr="America-Latina.jpg"/>
          <p:cNvPicPr/>
          <p:nvPr/>
        </p:nvPicPr>
        <p:blipFill>
          <a:blip r:embed="rId1"/>
          <a:stretch/>
        </p:blipFill>
        <p:spPr>
          <a:xfrm>
            <a:off x="3355920" y="214200"/>
            <a:ext cx="5430960" cy="642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guadalupe"/>
          <p:cNvPicPr/>
          <p:nvPr/>
        </p:nvPicPr>
        <p:blipFill>
          <a:blip r:embed="rId2"/>
          <a:stretch/>
        </p:blipFill>
        <p:spPr>
          <a:xfrm>
            <a:off x="8172360" y="146160"/>
            <a:ext cx="527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structura organizati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4"/>
          <p:cNvGraphicFramePr/>
          <p:nvPr/>
        </p:nvGraphicFramePr>
        <p:xfrm>
          <a:off x="395280" y="1316160"/>
          <a:ext cx="8497800" cy="48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16160"/>
                    <a:ext cx="8497800" cy="48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4"/>
          <p:cNvGraphicFramePr/>
          <p:nvPr/>
        </p:nvGraphicFramePr>
        <p:xfrm>
          <a:off x="216000" y="1308240"/>
          <a:ext cx="878508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308240"/>
                    <a:ext cx="87850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6040" y="2708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Conectividad</a:t>
            </a:r>
            <a:br>
              <a:rPr sz="4400"/>
            </a:b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Acceso a la tecnologí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23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684360" y="404640"/>
          <a:ext cx="7904160" cy="620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4640"/>
                    <a:ext cx="7904160" cy="620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6" descr="banner"/>
          <p:cNvPicPr/>
          <p:nvPr/>
        </p:nvPicPr>
        <p:blipFill>
          <a:blip r:embed="rId3"/>
          <a:srcRect l="3444" t="0" r="68150" b="0"/>
          <a:stretch/>
        </p:blipFill>
        <p:spPr>
          <a:xfrm>
            <a:off x="179280" y="185760"/>
            <a:ext cx="1511280" cy="88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guadalupe"/>
          <p:cNvPicPr/>
          <p:nvPr/>
        </p:nvPicPr>
        <p:blipFill>
          <a:blip r:embed="rId4"/>
          <a:stretch/>
        </p:blipFill>
        <p:spPr>
          <a:xfrm>
            <a:off x="8172360" y="146160"/>
            <a:ext cx="5270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21:32:24Z</dcterms:created>
  <dc:creator>USUARIO</dc:creator>
  <dc:description/>
  <dc:language>en-US</dc:language>
  <cp:lastModifiedBy>Usuario</cp:lastModifiedBy>
  <dcterms:modified xsi:type="dcterms:W3CDTF">2011-10-18T06:56:36Z</dcterms:modified>
  <cp:revision>89</cp:revision>
  <dc:subject/>
  <dc:title>Mapa de Conectividad Eclesial</dc:title>
</cp:coreProperties>
</file>