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-55908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Gill Sans"/>
              </a:rPr>
              <a:t>Apps para animar redes y dinamismos solidarios</a:t>
            </a:r>
            <a:endParaRPr b="0" lang="en-US" sz="6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911760" y="5918040"/>
            <a:ext cx="817848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Carlos Correa Acuñ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II Congreso RII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50680" y="223524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8500" spc="-1" strike="noStrike">
                <a:solidFill>
                  <a:srgbClr val="ffffff"/>
                </a:solidFill>
                <a:latin typeface="Gill Sans"/>
              </a:rPr>
              <a:t>convergencia”</a:t>
            </a:r>
            <a:endParaRPr b="0" lang="en-US" sz="8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ill Sans"/>
              </a:rPr>
              <a:t>Iglesia y TICs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Gill Sans"/>
              </a:rPr>
              <a:t>“realidades y sueños”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2730600"/>
            <a:ext cx="8826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"/>
              </a:rPr>
              <a:t>Ecuación necesidad - servicio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Tecnologías como medio para "escuchar", para "dialogar" con tod@s (no solo para "emitir")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Brazo armado" de la Pastoral de la Comunicación. Pastoral de fronter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59880" y="2793960"/>
            <a:ext cx="8826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ill Sans"/>
              </a:rPr>
              <a:t>Redes sociales = comunidad viva</a:t>
            </a:r>
            <a:endParaRPr b="0" lang="en-US" sz="39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Aprovechando estas nuevas pantallas, pantallas interactivas que no sólo reciben contenido sino "son" a su vez generadoras de contenido, de debate, de análisis; opiniones uno a uno, uno a muchos, muchos a mucho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99072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ill Sans"/>
                <a:ea typeface="Gill Sans"/>
              </a:rPr>
              <a:t>Iglesia y TICs“realidades y sueños”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659880" y="2768400"/>
            <a:ext cx="8826840" cy="447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ill Sans"/>
              </a:rPr>
              <a:t>Llegar hasta los últimos</a:t>
            </a:r>
            <a:endParaRPr b="0" lang="en-US" sz="39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No sólo llegar a los últimos sino también “escuchar a los último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Acortar algunas brechas importantes, básicamente en la “jerarquía y acceso a la información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ill Sans"/>
                <a:ea typeface="Gill Sans"/>
              </a:rPr>
              <a:t>Iglesia y TICs“realidades y sueños”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125712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Cómo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ill Sans"/>
              </a:rPr>
              <a:t>Adoptando tecnología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60240" y="2336760"/>
            <a:ext cx="894096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Facilitando los procesos a nivel de su base (sistemas, registro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Formando a distancia (optimización y multiplicación de recurso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Validando todos estos procesos e instrumentos de comunicación en la práctica, no solo en la teorí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8680" y="203040"/>
            <a:ext cx="95504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ill Sans"/>
              </a:rPr>
              <a:t>Inserta y participando intensamente en la cultura digital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60240" y="2349000"/>
            <a:ext cx="8940960" cy="513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Anunciando el Evangelio al mundo digit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Promoviendo el encuentro personal con Jesucristo a través de comunidades formadas y evangelizadas en el "continente digital"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8680" y="203040"/>
            <a:ext cx="95504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ill Sans"/>
              </a:rPr>
              <a:t>Aplicando tecnología a los procesos pastorales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0240" y="2311560"/>
            <a:ext cx="894096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Generando contenido especial, en un innovador formato digita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Acompañando virtualmente el contacto y la relación de las personas; promoviendo y abriendo fronteras (diaconia en el mundo digital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una catequesis desarrollada especialmente para los nativos digital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- Una pastoral digital (diaconia para los comunicadore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125712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En concreto..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60240" y="1104840"/>
            <a:ext cx="8940960" cy="637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Episcopo.net (servicios para obispo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parroquias y comunidades conectadas (mapa conectividad digital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registros digitales (Office Eclesial "in cloud?) con Apps para diferentes ecosistema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aplicaciones especiales -propias- sobre internet (“traje a la medida y mesa común”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Facilitando el contacto (y con ello la acogida, la transparencia, la apertura y el debate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558720"/>
            <a:ext cx="8178840" cy="32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5600" spc="-1" strike="noStrike">
                <a:solidFill>
                  <a:srgbClr val="ffffff"/>
                </a:solidFill>
                <a:latin typeface="Gill Sans"/>
              </a:rPr>
              <a:t>La web ha muerto. Larga vida a Internet”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63760" y="4393800"/>
            <a:ext cx="6591600" cy="275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ill Sans"/>
              </a:rPr>
              <a:t>Wired Magazine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ill Sans"/>
              </a:rPr>
              <a:t>17 de agosto 2010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ill Sans"/>
              </a:rPr>
              <a:t>Chris Anderson y Michael Wolff 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60240" y="1104840"/>
            <a:ext cx="8940960" cy="637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 centros de acogida virtuales (acompañamiento espiritual “on line”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Desarrollando juegos y aplicaciones móviles (tiempo libre, lúdico y con sentido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onstruyendo nuestra identidad en la red, nuestro "sello católico" dentro de la cultura digita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Siendo misioneros del ciberespacio al interior de comunidades virtuales al servicio de la evangelizació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3840" y="1257480"/>
            <a:ext cx="9588240" cy="481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ill Sans"/>
              </a:rPr>
              <a:t>Se podría resumir en...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3840" y="50760"/>
            <a:ext cx="9588240" cy="727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Promover el encuentro personal con Jesús” </a:t>
            </a:r>
            <a:br>
              <a:rPr sz="6000"/>
            </a:br>
            <a:br>
              <a:rPr sz="4800"/>
            </a:br>
            <a:br>
              <a:rPr sz="4800"/>
            </a:br>
            <a:r>
              <a:rPr b="1" lang="en-US" sz="4400" spc="-1" strike="noStrike">
                <a:solidFill>
                  <a:srgbClr val="ffffff"/>
                </a:solidFill>
                <a:latin typeface="Gill Sans"/>
              </a:rPr>
              <a:t>San Alberto Hurtado preguntaba “qué haría Cristo en mi lugar”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3840" y="50760"/>
            <a:ext cx="9588240" cy="727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ill Sans"/>
              </a:rPr>
              <a:t>"Discípulos Misioneros de Jesucristo, buscando verdad, anuncio y autenticidad de vida en la era digital, con nuevos medios al servicio de la Palabra y promoviendo una cultura de respeto, diálogo y amistad"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3840" y="965160"/>
            <a:ext cx="9588240" cy="2362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ill Sans"/>
              </a:rPr>
              <a:t>Aparecida y mensajes del Santo Padre JMCS 2011, 2010, 2009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393840" y="4140360"/>
            <a:ext cx="9588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  <a:ea typeface="Gill Sans"/>
              </a:rPr>
              <a:t>Sólo es un punto de partida para el trabajo en grup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5320" y="1320840"/>
            <a:ext cx="9588600" cy="2362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Gill Sans"/>
              </a:rPr>
              <a:t>@Muchas gracias!</a:t>
            </a:r>
            <a:endParaRPr b="0" lang="en-US" sz="6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3416400" y="4876920"/>
            <a:ext cx="5981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  <a:ea typeface="Gill Sans"/>
              </a:rPr>
              <a:t>Santiago, 19 de octubre de 2011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  <a:ea typeface="Gill Sans"/>
              </a:rPr>
              <a:t>@carloscorre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22440" y="380880"/>
            <a:ext cx="89154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926640"/>
            <a:ext cx="8178840" cy="555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Contradictorio? </a:t>
            </a:r>
            <a:br>
              <a:rPr sz="6400"/>
            </a:br>
            <a:br>
              <a:rPr sz="6400"/>
            </a:b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Provocativo? </a:t>
            </a:r>
            <a:br>
              <a:rPr sz="6400"/>
            </a:br>
            <a:br>
              <a:rPr sz="6400"/>
            </a:b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Premonitorio?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Veamos..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774360" y="685440"/>
            <a:ext cx="8597880" cy="62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Ecosistemas web, plataformas web (similar al "acuario", mencionado por Mons. Celli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Captan usuarios ofreciendo servicios gratuitos (¿y son realmente gratuitos?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Logran identidad y además integran otras plataformas y recurso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ill Sans"/>
              </a:rPr>
              <a:t>Diferentes modos de acceso; pirámide invertid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965160" y="1257480"/>
            <a:ext cx="8229600" cy="50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Otros ecosistema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8000"/>
          </a:bodyPr>
          <a:p>
            <a:pPr marL="614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iTunes &amp; Apps Sto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BlackBerry App World™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Android Mark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4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Explosión de aplicaciones y juego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125712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Gill Sans"/>
              </a:rPr>
              <a:t>Hacia donde vamos..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